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52360" y="692280"/>
            <a:ext cx="4554720" cy="341604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 with Unicast and Multicast networking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Guarantees: Ordering, etc</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50920" y="692280"/>
            <a:ext cx="4556160" cy="341604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urrent networks, routers and switches do not want to add to their processing work. In fact, Gigabit technology does the exact opposite of active networks. It tries to remove as much processing from the network in order to speed up the network and create greater band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s can do limited processing on packets, but the processing is usually limited to changing IP head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600" y="3805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8FA4-A97D-49EE-9DDF-EB6DEF311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9880" y="6448320"/>
            <a:ext cx="15134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etworking Overview</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Networking Overview</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Bone Usage</a:t>
            </a:r>
            <a:endParaRPr b="1" i="1" lang="en-US" sz="4400" spc="-1" strike="noStrike">
              <a:solidFill>
                <a:srgbClr val="00279f"/>
              </a:solidFill>
              <a:latin typeface="Times New Roman"/>
            </a:endParaRPr>
          </a:p>
        </p:txBody>
      </p:sp>
      <p:sp>
        <p:nvSpPr>
          <p:cNvPr id="1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matic increase in us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arch: telecollaboration, protocol developmen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arning: conferences, seminars, and cla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tertainment: Rolling Stones concer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ds to much higher bandwidth deman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roups range from &lt; 10 to 1000’s, will grow to mill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umber of programs/groups -- thousands of channel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rnet Video</a:t>
            </a:r>
            <a:endParaRPr b="1" i="1" lang="en-US" sz="4400" spc="-1" strike="noStrike">
              <a:solidFill>
                <a:srgbClr val="00279f"/>
              </a:solidFill>
              <a:latin typeface="Times New Roman"/>
            </a:endParaRPr>
          </a:p>
        </p:txBody>
      </p:sp>
      <p:sp>
        <p:nvSpPr>
          <p:cNvPr id="17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 bandwidth and qual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me rate, image size, dela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y bandwidth and quality depending on receiver deman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ery large groups can use more/less bandwidth depending on network capabilities and economic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mall groups on a campus can use very high qua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reless viewers use low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viewers get different qualities for one program (wireless vs wired comput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deo Transmissions</a:t>
            </a:r>
            <a:endParaRPr b="1" i="1" lang="en-US" sz="4400" spc="-1" strike="noStrike">
              <a:solidFill>
                <a:srgbClr val="00279f"/>
              </a:solidFill>
              <a:latin typeface="Times New Roman"/>
            </a:endParaRPr>
          </a:p>
        </p:txBody>
      </p:sp>
      <p:sp>
        <p:nvSpPr>
          <p:cNvPr id="177" name=""/>
          <p:cNvSpPr/>
          <p:nvPr/>
        </p:nvSpPr>
        <p:spPr>
          <a:xfrm>
            <a:off x="762120" y="1905120"/>
            <a:ext cx="7238880" cy="11430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609480" y="1981080"/>
            <a:ext cx="8001000" cy="335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Times New Roman"/>
              </a:rPr>
              <a:t>	</a:t>
            </a:r>
            <a:r>
              <a:rPr b="0" lang="en-US" sz="3200" spc="-1" strike="noStrike" u="sng">
                <a:solidFill>
                  <a:srgbClr val="0000ff"/>
                </a:solidFill>
                <a:uFillTx/>
                <a:latin typeface="Times New Roman"/>
              </a:rPr>
              <a:t>	</a:t>
            </a:r>
            <a:r>
              <a:rPr b="0" lang="en-US" sz="3200" spc="-1" strike="noStrike" u="sng">
                <a:solidFill>
                  <a:srgbClr val="0000ff"/>
                </a:solidFill>
                <a:uFillTx/>
                <a:latin typeface="Times New Roman"/>
              </a:rPr>
              <a:t>	</a:t>
            </a:r>
            <a:r>
              <a:rPr b="0" lang="en-US" sz="3200" spc="-1" strike="noStrike" u="sng">
                <a:solidFill>
                  <a:srgbClr val="0000ff"/>
                </a:solidFill>
                <a:uFillTx/>
                <a:latin typeface="Times New Roman"/>
              </a:rPr>
              <a:t>	</a:t>
            </a:r>
            <a:r>
              <a:rPr b="0" lang="en-US" sz="3200" spc="-1" strike="noStrike">
                <a:solidFill>
                  <a:srgbClr val="00ae00"/>
                </a:solidFill>
                <a:latin typeface="Times New Roman"/>
              </a:rPr>
              <a:t>Traditional</a:t>
            </a:r>
            <a:r>
              <a:rPr b="0" lang="en-US" sz="3200" spc="-1" strike="noStrike">
                <a:solidFill>
                  <a:srgbClr val="0000ff"/>
                </a:solidFill>
                <a:latin typeface="Times New Roman"/>
              </a:rPr>
              <a:t>	</a:t>
            </a:r>
            <a:r>
              <a:rPr b="0" lang="en-US" sz="3200" spc="-1" strike="noStrike">
                <a:solidFill>
                  <a:srgbClr val="0000ff"/>
                </a:solidFill>
                <a:latin typeface="Times New Roman"/>
              </a:rPr>
              <a:t>	</a:t>
            </a:r>
            <a:r>
              <a:rPr b="0" lang="en-US" sz="3200" spc="-1" strike="noStrike">
                <a:solidFill>
                  <a:srgbClr val="00ae00"/>
                </a:solidFill>
                <a:latin typeface="Times New Roman"/>
              </a:rPr>
              <a:t>Internet</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rame rat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ixe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Variabl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Image siz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ixe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Variabl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Dela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ixed, bounded</a:t>
            </a:r>
            <a:r>
              <a:rPr b="0" lang="en-US" sz="2800" spc="-1" strike="noStrike">
                <a:solidFill>
                  <a:srgbClr val="000000"/>
                </a:solidFill>
                <a:latin typeface="Times New Roman"/>
              </a:rPr>
              <a:t>	</a:t>
            </a:r>
            <a:r>
              <a:rPr b="0" lang="en-US" sz="2800" spc="-1" strike="noStrike">
                <a:solidFill>
                  <a:srgbClr val="000000"/>
                </a:solidFill>
                <a:latin typeface="Times New Roman"/>
              </a:rPr>
              <a:t>Variabl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ransmissions</a:t>
            </a:r>
            <a:r>
              <a:rPr b="0" lang="en-US" sz="2800" spc="-1" strike="noStrike">
                <a:solidFill>
                  <a:srgbClr val="000000"/>
                </a:solidFill>
                <a:latin typeface="Times New Roman"/>
              </a:rPr>
              <a:t>	</a:t>
            </a:r>
            <a:r>
              <a:rPr b="0" lang="en-US" sz="2800" spc="-1" strike="noStrike">
                <a:solidFill>
                  <a:srgbClr val="000000"/>
                </a:solidFill>
                <a:latin typeface="Times New Roman"/>
              </a:rPr>
              <a:t>Analog</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Digital packet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ign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oisy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ost packe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
          <p:cNvSpPr/>
          <p:nvPr/>
        </p:nvSpPr>
        <p:spPr>
          <a:xfrm>
            <a:off x="609480" y="1981080"/>
            <a:ext cx="8001000" cy="3276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609480" y="46483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9480" y="4114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9480" y="35812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09480" y="3048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200400" y="1981080"/>
            <a:ext cx="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943600" y="1981080"/>
            <a:ext cx="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09480" y="25146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124080" y="1981080"/>
            <a:ext cx="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09480" y="246204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uture of Internet Video</a:t>
            </a:r>
            <a:endParaRPr b="1" i="1" lang="en-US" sz="4400" spc="-1" strike="noStrike">
              <a:solidFill>
                <a:srgbClr val="00279f"/>
              </a:solidFill>
              <a:latin typeface="Times New Roman"/>
            </a:endParaRPr>
          </a:p>
        </p:txBody>
      </p:sp>
      <p:sp>
        <p:nvSpPr>
          <p:cNvPr id="1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video streams share network lin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limit total bandwidth consumed by vide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cate bandwidth by receiver intere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UBA (Scalable ConsensUs Based Allocation) does this per sess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a similar mechanism for global allo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adapt to signal based on available bandwid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Example</a:t>
            </a:r>
            <a:endParaRPr b="1" i="1" lang="en-US" sz="4400" spc="-1" strike="noStrike">
              <a:solidFill>
                <a:srgbClr val="00279f"/>
              </a:solidFill>
              <a:latin typeface="Times New Roman"/>
            </a:endParaRPr>
          </a:p>
        </p:txBody>
      </p:sp>
      <p:grpSp>
        <p:nvGrpSpPr>
          <p:cNvPr id="192" name=""/>
          <p:cNvGrpSpPr/>
          <p:nvPr/>
        </p:nvGrpSpPr>
        <p:grpSpPr>
          <a:xfrm>
            <a:off x="5943600" y="3276720"/>
            <a:ext cx="493560" cy="490320"/>
            <a:chOff x="5943600" y="3276720"/>
            <a:chExt cx="493560" cy="490320"/>
          </a:xfrm>
        </p:grpSpPr>
        <p:sp>
          <p:nvSpPr>
            <p:cNvPr id="193" name=""/>
            <p:cNvSpPr/>
            <p:nvPr/>
          </p:nvSpPr>
          <p:spPr>
            <a:xfrm>
              <a:off x="6067080" y="330876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943600" y="365256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5" name=""/>
            <p:cNvSpPr/>
            <p:nvPr/>
          </p:nvSpPr>
          <p:spPr>
            <a:xfrm flipH="1">
              <a:off x="6067080" y="36525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61279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600480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287760" y="36525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618984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3133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998680" y="369072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986080" y="373356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32160" y="327672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4" name=""/>
          <p:cNvSpPr/>
          <p:nvPr/>
        </p:nvSpPr>
        <p:spPr>
          <a:xfrm>
            <a:off x="3352680" y="26668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05" name=""/>
          <p:cNvGrpSpPr/>
          <p:nvPr/>
        </p:nvGrpSpPr>
        <p:grpSpPr>
          <a:xfrm>
            <a:off x="1981080" y="2743200"/>
            <a:ext cx="457200" cy="456840"/>
            <a:chOff x="1981080" y="2743200"/>
            <a:chExt cx="457200" cy="456840"/>
          </a:xfrm>
        </p:grpSpPr>
        <p:sp>
          <p:nvSpPr>
            <p:cNvPr id="206" name=""/>
            <p:cNvSpPr/>
            <p:nvPr/>
          </p:nvSpPr>
          <p:spPr>
            <a:xfrm>
              <a:off x="2095200" y="27730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198108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8" name=""/>
            <p:cNvSpPr/>
            <p:nvPr/>
          </p:nvSpPr>
          <p:spPr>
            <a:xfrm flipH="1">
              <a:off x="20952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21524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203796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30004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22096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23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03220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02032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063160" y="27432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7" name=""/>
          <p:cNvSpPr/>
          <p:nvPr/>
        </p:nvSpPr>
        <p:spPr>
          <a:xfrm>
            <a:off x="464832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18" name=""/>
          <p:cNvGrpSpPr/>
          <p:nvPr/>
        </p:nvGrpSpPr>
        <p:grpSpPr>
          <a:xfrm>
            <a:off x="4724280" y="1828800"/>
            <a:ext cx="493920" cy="490680"/>
            <a:chOff x="4724280" y="1828800"/>
            <a:chExt cx="493920" cy="490680"/>
          </a:xfrm>
        </p:grpSpPr>
        <p:sp>
          <p:nvSpPr>
            <p:cNvPr id="219" name=""/>
            <p:cNvSpPr/>
            <p:nvPr/>
          </p:nvSpPr>
          <p:spPr>
            <a:xfrm>
              <a:off x="4847760" y="186084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4724280" y="220500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1" name=""/>
            <p:cNvSpPr/>
            <p:nvPr/>
          </p:nvSpPr>
          <p:spPr>
            <a:xfrm flipH="1">
              <a:off x="4847760" y="22050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49089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47854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068800" y="22050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49708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943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779360" y="224316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766760" y="228600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813200" y="182880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0" name=""/>
          <p:cNvGrpSpPr/>
          <p:nvPr/>
        </p:nvGrpSpPr>
        <p:grpSpPr>
          <a:xfrm>
            <a:off x="4648320" y="4572000"/>
            <a:ext cx="493560" cy="490680"/>
            <a:chOff x="4648320" y="4572000"/>
            <a:chExt cx="493560" cy="490680"/>
          </a:xfrm>
        </p:grpSpPr>
        <p:sp>
          <p:nvSpPr>
            <p:cNvPr id="231" name=""/>
            <p:cNvSpPr/>
            <p:nvPr/>
          </p:nvSpPr>
          <p:spPr>
            <a:xfrm>
              <a:off x="4771800" y="46040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a:off x="4648320" y="49482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3" name=""/>
            <p:cNvSpPr/>
            <p:nvPr/>
          </p:nvSpPr>
          <p:spPr>
            <a:xfrm flipH="1">
              <a:off x="4771800" y="49482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48326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47095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992480" y="49482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489456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0180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703400" y="49863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690800" y="50292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736880" y="45720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2" name=""/>
          <p:cNvSpPr/>
          <p:nvPr/>
        </p:nvSpPr>
        <p:spPr>
          <a:xfrm>
            <a:off x="2514600" y="304812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3" name=""/>
          <p:cNvSpPr/>
          <p:nvPr/>
        </p:nvSpPr>
        <p:spPr>
          <a:xfrm>
            <a:off x="2514600" y="289548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 name=""/>
          <p:cNvSpPr/>
          <p:nvPr/>
        </p:nvSpPr>
        <p:spPr>
          <a:xfrm>
            <a:off x="2514600" y="2743200"/>
            <a:ext cx="76212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5" name=""/>
          <p:cNvSpPr/>
          <p:nvPr/>
        </p:nvSpPr>
        <p:spPr>
          <a:xfrm>
            <a:off x="2513520" y="243792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246" name=""/>
          <p:cNvSpPr/>
          <p:nvPr/>
        </p:nvSpPr>
        <p:spPr>
          <a:xfrm flipV="1">
            <a:off x="3962520" y="2209680"/>
            <a:ext cx="761760" cy="4572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7" name=""/>
          <p:cNvSpPr/>
          <p:nvPr/>
        </p:nvSpPr>
        <p:spPr>
          <a:xfrm flipV="1">
            <a:off x="3886200" y="2133720"/>
            <a:ext cx="762120" cy="45720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8" name=""/>
          <p:cNvSpPr/>
          <p:nvPr/>
        </p:nvSpPr>
        <p:spPr>
          <a:xfrm flipV="1">
            <a:off x="3809880" y="2057400"/>
            <a:ext cx="762120" cy="45720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9" name=""/>
          <p:cNvSpPr/>
          <p:nvPr/>
        </p:nvSpPr>
        <p:spPr>
          <a:xfrm>
            <a:off x="5181480" y="365760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0" name=""/>
          <p:cNvSpPr/>
          <p:nvPr/>
        </p:nvSpPr>
        <p:spPr>
          <a:xfrm>
            <a:off x="5181480" y="350532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1" name=""/>
          <p:cNvSpPr/>
          <p:nvPr/>
        </p:nvSpPr>
        <p:spPr>
          <a:xfrm>
            <a:off x="5256720" y="304776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252" name=""/>
          <p:cNvSpPr/>
          <p:nvPr/>
        </p:nvSpPr>
        <p:spPr>
          <a:xfrm>
            <a:off x="4950360" y="403812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 Kb/s</a:t>
            </a:r>
            <a:endParaRPr b="0" lang="en-US" sz="1400" spc="-1" strike="noStrike">
              <a:solidFill>
                <a:srgbClr val="000000"/>
              </a:solidFill>
              <a:latin typeface="Times New Roman"/>
            </a:endParaRPr>
          </a:p>
        </p:txBody>
      </p:sp>
      <p:sp>
        <p:nvSpPr>
          <p:cNvPr id="253" name=""/>
          <p:cNvSpPr/>
          <p:nvPr/>
        </p:nvSpPr>
        <p:spPr>
          <a:xfrm>
            <a:off x="3502800" y="350496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2 Kb/s</a:t>
            </a:r>
            <a:endParaRPr b="0" lang="en-US" sz="1400" spc="-1" strike="noStrike">
              <a:solidFill>
                <a:srgbClr val="000000"/>
              </a:solidFill>
              <a:latin typeface="Times New Roman"/>
            </a:endParaRPr>
          </a:p>
        </p:txBody>
      </p:sp>
      <p:sp>
        <p:nvSpPr>
          <p:cNvPr id="254" name=""/>
          <p:cNvSpPr/>
          <p:nvPr/>
        </p:nvSpPr>
        <p:spPr>
          <a:xfrm>
            <a:off x="3886200" y="3276720"/>
            <a:ext cx="685800" cy="3808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5" name=""/>
          <p:cNvSpPr/>
          <p:nvPr/>
        </p:nvSpPr>
        <p:spPr>
          <a:xfrm>
            <a:off x="3886200" y="3124080"/>
            <a:ext cx="685800" cy="3812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6" name=""/>
          <p:cNvSpPr/>
          <p:nvPr/>
        </p:nvSpPr>
        <p:spPr>
          <a:xfrm>
            <a:off x="4876920" y="3809880"/>
            <a:ext cx="0" cy="6858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7" name=""/>
          <p:cNvSpPr/>
          <p:nvPr/>
        </p:nvSpPr>
        <p:spPr>
          <a:xfrm>
            <a:off x="3580200" y="205704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258" name=""/>
          <p:cNvSpPr/>
          <p:nvPr/>
        </p:nvSpPr>
        <p:spPr>
          <a:xfrm>
            <a:off x="1940040" y="3262320"/>
            <a:ext cx="5493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259" name=""/>
          <p:cNvSpPr/>
          <p:nvPr/>
        </p:nvSpPr>
        <p:spPr>
          <a:xfrm>
            <a:off x="4497120" y="50911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260" name=""/>
          <p:cNvSpPr/>
          <p:nvPr/>
        </p:nvSpPr>
        <p:spPr>
          <a:xfrm>
            <a:off x="5792400" y="379584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sp>
        <p:nvSpPr>
          <p:cNvPr id="261" name=""/>
          <p:cNvSpPr/>
          <p:nvPr/>
        </p:nvSpPr>
        <p:spPr>
          <a:xfrm>
            <a:off x="4574880" y="23623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SP Concerns</a:t>
            </a:r>
            <a:endParaRPr b="1" i="1" lang="en-US" sz="4400" spc="-1" strike="noStrike">
              <a:solidFill>
                <a:srgbClr val="00279f"/>
              </a:solidFill>
              <a:latin typeface="Times New Roman"/>
            </a:endParaRPr>
          </a:p>
        </p:txBody>
      </p:sp>
      <p:sp>
        <p:nvSpPr>
          <p:cNvPr id="26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causes high network utiliz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e source can produce high total network loa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erimental multicast applications are relatively high bandwidth: audio and vide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control non-existent in many multicast app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breaks telco/ISP pricing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rently, both sender and receiver pay for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allows sender to buy less bandwidth while reaching same number of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on ISP network not proportional to source data rat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conomics of Multicast</a:t>
            </a:r>
            <a:endParaRPr b="1" i="1" lang="en-US" sz="4400" spc="-1" strike="noStrike">
              <a:solidFill>
                <a:srgbClr val="00279f"/>
              </a:solidFill>
              <a:latin typeface="Times New Roman"/>
            </a:endParaRPr>
          </a:p>
        </p:txBody>
      </p:sp>
      <p:sp>
        <p:nvSpPr>
          <p:cNvPr id="2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packet sent to multiple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Benefits by reducing network load compared to unicast</a:t>
            </a:r>
            <a:endParaRPr b="0" i="1"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Lower cost of network connectivit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service provider</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0" i="1" lang="en-US" sz="2400" spc="-1" strike="noStrike">
                <a:solidFill>
                  <a:srgbClr val="000000"/>
                </a:solidFill>
                <a:latin typeface="Times New Roman"/>
              </a:rPr>
              <a:t>One packet sent can cause load greater than unicast packet load</a:t>
            </a:r>
            <a:endParaRPr b="0" i="1"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Reduces overall traffic that flows over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Same number of packets received as unicas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Problems</a:t>
            </a:r>
            <a:endParaRPr b="1" i="1" lang="en-US" sz="4400" spc="-1" strike="noStrike">
              <a:solidFill>
                <a:srgbClr val="00279f"/>
              </a:solidFill>
              <a:latin typeface="Times New Roman"/>
            </a:endParaRPr>
          </a:p>
        </p:txBody>
      </p:sp>
      <p:sp>
        <p:nvSpPr>
          <p:cNvPr id="26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is imm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ols are poor, difficult to us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protocols leave many issues unresolv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development has focused on academic problems, not business concer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did not address polic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IM, DVMRP, CBT do not address ISP policy concer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GMP addresses some ISP concerns, but it is still under developme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urrent ISP Multicast Solution</a:t>
            </a:r>
            <a:endParaRPr b="1" i="1" lang="en-US" sz="4400" spc="-1" strike="noStrike">
              <a:solidFill>
                <a:srgbClr val="00279f"/>
              </a:solidFill>
              <a:latin typeface="Times New Roman"/>
            </a:endParaRPr>
          </a:p>
        </p:txBody>
      </p:sp>
      <p:sp>
        <p:nvSpPr>
          <p:cNvPr id="26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rict senders of multicast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ge senders to distribute multicast traf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ic agreem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forward multicast traf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me ISP’s offer multicast service to customers (e.g. UUNET UUCas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P beginning to discuss peer agreement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Service Model</a:t>
            </a:r>
            <a:endParaRPr b="1" i="1" lang="en-US" sz="4400" spc="-1" strike="noStrike">
              <a:solidFill>
                <a:srgbClr val="00279f"/>
              </a:solidFill>
              <a:latin typeface="Times New Roman"/>
            </a:endParaRPr>
          </a:p>
        </p:txBody>
      </p:sp>
      <p:sp>
        <p:nvSpPr>
          <p:cNvPr id="2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Multicast is an unreliable delivery servi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of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mable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Networking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 of Talks</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a:t>
            </a:r>
            <a:endParaRPr b="1" i="1" lang="en-US" sz="4400" spc="-1" strike="noStrike">
              <a:solidFill>
                <a:srgbClr val="00279f"/>
              </a:solidFill>
              <a:latin typeface="Times New Roman"/>
            </a:endParaRPr>
          </a:p>
        </p:txBody>
      </p:sp>
      <p:sp>
        <p:nvSpPr>
          <p:cNvPr id="2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pplications need the same data to be delivered reliably to many receiver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tributed collaboration tools (e.g. shared whiteboard)</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ock history</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ftware distribution</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ny different proposal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posals solve some problems but have not considered commercial limitations of multicast</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 exploring applications for reliable multicas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al-Time Transport Protocol (RTP)</a:t>
            </a:r>
            <a:endParaRPr b="1" i="1" lang="en-US" sz="4400" spc="-1" strike="noStrike">
              <a:solidFill>
                <a:srgbClr val="00279f"/>
              </a:solidFill>
              <a:latin typeface="Times New Roman"/>
            </a:endParaRPr>
          </a:p>
        </p:txBody>
      </p:sp>
      <p:sp>
        <p:nvSpPr>
          <p:cNvPr id="27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port protocol for real-time data</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marily used for audio and vide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simple, common services for real-time data</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itional services provided by profile and payload forma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delivery or quality of service guarante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ure protocol being used by some commercial application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uture Directions</a:t>
            </a:r>
            <a:endParaRPr b="1" i="1" lang="en-US" sz="4400" spc="-1" strike="noStrike">
              <a:solidFill>
                <a:srgbClr val="00279f"/>
              </a:solidFill>
              <a:latin typeface="Times New Roman"/>
            </a:endParaRPr>
          </a:p>
        </p:txBody>
      </p:sp>
      <p:sp>
        <p:nvSpPr>
          <p:cNvPr id="27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aches to improve applications and networks for distributed multimedi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applications more adaptiv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protocols more resilient to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algorithms more resilient to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networks more responsive and flexi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daptive Applications</a:t>
            </a:r>
            <a:endParaRPr b="1" i="1" lang="en-US" sz="4400" spc="-1" strike="noStrike">
              <a:solidFill>
                <a:srgbClr val="00279f"/>
              </a:solidFill>
              <a:latin typeface="Times New Roman"/>
            </a:endParaRPr>
          </a:p>
        </p:txBody>
      </p:sp>
      <p:sp>
        <p:nvSpPr>
          <p:cNvPr id="27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xible handling of lost and late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t data should lead to loss of fidelity but not usefulness (i.e. degraded audio qua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decrease bandwidth usage in response to changing network condi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ss Tolerant Protocols</a:t>
            </a:r>
            <a:endParaRPr b="1" i="1" lang="en-US" sz="4400" spc="-1" strike="noStrike">
              <a:solidFill>
                <a:srgbClr val="00279f"/>
              </a:solidFill>
              <a:latin typeface="Times New Roman"/>
            </a:endParaRPr>
          </a:p>
        </p:txBody>
      </p:sp>
      <p:sp>
        <p:nvSpPr>
          <p:cNvPr id="28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dependencies between packe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 data units can be operated on independent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fragmentation of data pack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forward error correction (FEC) for data delive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ss Tolerant Algorithms</a:t>
            </a:r>
            <a:endParaRPr b="1" i="1" lang="en-US" sz="4400" spc="-1" strike="noStrike">
              <a:solidFill>
                <a:srgbClr val="00279f"/>
              </a:solidFill>
              <a:latin typeface="Times New Roman"/>
            </a:endParaRPr>
          </a:p>
        </p:txBody>
      </p:sp>
      <p:sp>
        <p:nvSpPr>
          <p:cNvPr id="28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ource encoding algorithms to generate network friendly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ify existing algorith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ra H.261 is a subset of H.261 without inter-frame dependenci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driven layered multicast (RLM)</a:t>
            </a:r>
            <a:endParaRPr b="0" lang="en-US" sz="32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uture of IP Networks </a:t>
            </a:r>
            <a:endParaRPr b="1" i="1" lang="en-US" sz="4400" spc="-1" strike="noStrike">
              <a:solidFill>
                <a:srgbClr val="00279f"/>
              </a:solidFill>
              <a:latin typeface="Times New Roman"/>
            </a:endParaRPr>
          </a:p>
        </p:txBody>
      </p:sp>
      <p:sp>
        <p:nvSpPr>
          <p:cNvPr id="28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IP networks treated as black box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networks more responsiv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networks more predictabl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ive users more control over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licit congestion notific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grated Services, RSVP, Differentiated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grammable networks (Active Networks, application-specific gateway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Quality of Service Approaches</a:t>
            </a:r>
            <a:endParaRPr b="1" i="1" lang="en-US" sz="4400" spc="-1" strike="noStrike">
              <a:solidFill>
                <a:srgbClr val="00279f"/>
              </a:solidFill>
              <a:latin typeface="Times New Roman"/>
            </a:endParaRPr>
          </a:p>
        </p:txBody>
      </p:sp>
      <p:sp>
        <p:nvSpPr>
          <p:cNvPr id="287" name="PlaceHolder 2"/>
          <p:cNvSpPr>
            <a:spLocks noGrp="1"/>
          </p:cNvSpPr>
          <p:nvPr>
            <p:ph/>
          </p:nvPr>
        </p:nvSpPr>
        <p:spPr>
          <a:xfrm>
            <a:off x="685800" y="1295280"/>
            <a:ext cx="7772400" cy="37339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Services/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ne resource alloca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ia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arse resource allocations</a:t>
            </a:r>
            <a:endParaRPr b="0" i="1" lang="en-US" sz="2400" spc="-1" strike="noStrike">
              <a:solidFill>
                <a:srgbClr val="000000"/>
              </a:solidFill>
              <a:latin typeface="Times New Roman"/>
            </a:endParaRPr>
          </a:p>
        </p:txBody>
      </p:sp>
      <p:sp>
        <p:nvSpPr>
          <p:cNvPr id="288" name=""/>
          <p:cNvSpPr/>
          <p:nvPr/>
        </p:nvSpPr>
        <p:spPr>
          <a:xfrm>
            <a:off x="980640" y="4119840"/>
            <a:ext cx="7072200" cy="1008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l question is to choose which packets shall be dropped.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definition of differential service is something like "not min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hristian Huite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grated Services</a:t>
            </a:r>
            <a:endParaRPr b="1" i="1" lang="en-US" sz="4400" spc="-1" strike="noStrike">
              <a:solidFill>
                <a:srgbClr val="00279f"/>
              </a:solidFill>
              <a:latin typeface="Times New Roman"/>
            </a:endParaRPr>
          </a:p>
        </p:txBody>
      </p:sp>
      <p:sp>
        <p:nvSpPr>
          <p:cNvPr id="2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x model for allocating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networks predictable and controll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applications can request different deliver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RSVP reservation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es to solve many hard 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to-end admission contr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to-end pric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verVation Protocol (RSVP)</a:t>
            </a:r>
            <a:endParaRPr b="1" i="1" lang="en-US" sz="4400" spc="-1" strike="noStrike">
              <a:solidFill>
                <a:srgbClr val="00279f"/>
              </a:solidFill>
              <a:latin typeface="Times New Roman"/>
            </a:endParaRPr>
          </a:p>
        </p:txBody>
      </p:sp>
      <p:sp>
        <p:nvSpPr>
          <p:cNvPr id="2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ing protocol for Integrated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e grain control of network bandwid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to-end solution, but requires support in networ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icult to implement incremental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icated s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 management does not scale to backb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ackground</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networks emerged as standard for data commun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was successful research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led to explosive growth of public and commercial 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communication technology improvements enabled distributed multimedia applications (e.g. video collabo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fferentiated Services</a:t>
            </a:r>
            <a:endParaRPr b="1" i="1" lang="en-US" sz="4400" spc="-1" strike="noStrike">
              <a:solidFill>
                <a:srgbClr val="00279f"/>
              </a:solidFill>
              <a:latin typeface="Times New Roman"/>
            </a:endParaRPr>
          </a:p>
        </p:txBody>
      </p:sp>
      <p:sp>
        <p:nvSpPr>
          <p:cNvPr id="2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lightweight solution for resource allo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to operate on aggregated flow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ould scale to backbone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s with Integrated Services/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Serv/RSVP tried to solve every resource allocation problem on an end-to-end basi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Serv only specifies per-hop behavio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477120" y="4648320"/>
            <a:ext cx="1981080" cy="1752480"/>
          </a:xfrm>
          <a:custGeom>
            <a:avLst/>
            <a:gdLst/>
            <a:ahLst/>
            <a:rect l="l" t="t" r="r" b="b"/>
            <a:pathLst>
              <a:path w="1549" h="1437">
                <a:moveTo>
                  <a:pt x="323" y="1093"/>
                </a:moveTo>
                <a:cubicBezTo>
                  <a:pt x="319" y="1130"/>
                  <a:pt x="314" y="1165"/>
                  <a:pt x="308" y="1201"/>
                </a:cubicBezTo>
                <a:cubicBezTo>
                  <a:pt x="323" y="1353"/>
                  <a:pt x="469" y="1424"/>
                  <a:pt x="605" y="1437"/>
                </a:cubicBezTo>
                <a:cubicBezTo>
                  <a:pt x="631" y="1435"/>
                  <a:pt x="657" y="1435"/>
                  <a:pt x="682" y="1431"/>
                </a:cubicBezTo>
                <a:cubicBezTo>
                  <a:pt x="763" y="1418"/>
                  <a:pt x="809" y="1346"/>
                  <a:pt x="856" y="1288"/>
                </a:cubicBezTo>
                <a:cubicBezTo>
                  <a:pt x="858" y="1283"/>
                  <a:pt x="861" y="1278"/>
                  <a:pt x="861" y="1272"/>
                </a:cubicBezTo>
                <a:cubicBezTo>
                  <a:pt x="861" y="1265"/>
                  <a:pt x="852" y="1258"/>
                  <a:pt x="856" y="1252"/>
                </a:cubicBezTo>
                <a:cubicBezTo>
                  <a:pt x="859" y="1248"/>
                  <a:pt x="863" y="1259"/>
                  <a:pt x="867" y="1262"/>
                </a:cubicBezTo>
                <a:cubicBezTo>
                  <a:pt x="880" y="1271"/>
                  <a:pt x="894" y="1279"/>
                  <a:pt x="908" y="1288"/>
                </a:cubicBezTo>
                <a:cubicBezTo>
                  <a:pt x="927" y="1300"/>
                  <a:pt x="963" y="1303"/>
                  <a:pt x="985" y="1308"/>
                </a:cubicBezTo>
                <a:cubicBezTo>
                  <a:pt x="1031" y="1306"/>
                  <a:pt x="1077" y="1307"/>
                  <a:pt x="1123" y="1303"/>
                </a:cubicBezTo>
                <a:cubicBezTo>
                  <a:pt x="1137" y="1302"/>
                  <a:pt x="1164" y="1293"/>
                  <a:pt x="1164" y="1293"/>
                </a:cubicBezTo>
                <a:cubicBezTo>
                  <a:pt x="1220" y="1261"/>
                  <a:pt x="1269" y="1233"/>
                  <a:pt x="1308" y="1180"/>
                </a:cubicBezTo>
                <a:cubicBezTo>
                  <a:pt x="1315" y="1160"/>
                  <a:pt x="1323" y="1140"/>
                  <a:pt x="1328" y="1119"/>
                </a:cubicBezTo>
                <a:cubicBezTo>
                  <a:pt x="1330" y="1097"/>
                  <a:pt x="1328" y="1074"/>
                  <a:pt x="1333" y="1052"/>
                </a:cubicBezTo>
                <a:cubicBezTo>
                  <a:pt x="1336" y="1038"/>
                  <a:pt x="1375" y="1020"/>
                  <a:pt x="1385" y="1011"/>
                </a:cubicBezTo>
                <a:cubicBezTo>
                  <a:pt x="1422" y="978"/>
                  <a:pt x="1451" y="930"/>
                  <a:pt x="1492" y="903"/>
                </a:cubicBezTo>
                <a:cubicBezTo>
                  <a:pt x="1508" y="874"/>
                  <a:pt x="1529" y="848"/>
                  <a:pt x="1538" y="816"/>
                </a:cubicBezTo>
                <a:cubicBezTo>
                  <a:pt x="1542" y="801"/>
                  <a:pt x="1549" y="770"/>
                  <a:pt x="1549" y="770"/>
                </a:cubicBezTo>
                <a:cubicBezTo>
                  <a:pt x="1544" y="724"/>
                  <a:pt x="1538" y="678"/>
                  <a:pt x="1518" y="636"/>
                </a:cubicBezTo>
                <a:cubicBezTo>
                  <a:pt x="1510" y="594"/>
                  <a:pt x="1517" y="619"/>
                  <a:pt x="1492" y="565"/>
                </a:cubicBezTo>
                <a:cubicBezTo>
                  <a:pt x="1476" y="530"/>
                  <a:pt x="1488" y="523"/>
                  <a:pt x="1461" y="498"/>
                </a:cubicBezTo>
                <a:cubicBezTo>
                  <a:pt x="1477" y="476"/>
                  <a:pt x="1501" y="452"/>
                  <a:pt x="1523" y="436"/>
                </a:cubicBezTo>
                <a:cubicBezTo>
                  <a:pt x="1537" y="393"/>
                  <a:pt x="1532" y="416"/>
                  <a:pt x="1538" y="365"/>
                </a:cubicBezTo>
                <a:cubicBezTo>
                  <a:pt x="1522" y="249"/>
                  <a:pt x="1482" y="214"/>
                  <a:pt x="1390" y="149"/>
                </a:cubicBezTo>
                <a:cubicBezTo>
                  <a:pt x="1342" y="115"/>
                  <a:pt x="1304" y="76"/>
                  <a:pt x="1246" y="62"/>
                </a:cubicBezTo>
                <a:cubicBezTo>
                  <a:pt x="1204" y="66"/>
                  <a:pt x="1192" y="65"/>
                  <a:pt x="1159" y="83"/>
                </a:cubicBezTo>
                <a:cubicBezTo>
                  <a:pt x="1146" y="69"/>
                  <a:pt x="1136" y="50"/>
                  <a:pt x="1123" y="36"/>
                </a:cubicBezTo>
                <a:cubicBezTo>
                  <a:pt x="1104" y="16"/>
                  <a:pt x="1043" y="8"/>
                  <a:pt x="1015" y="1"/>
                </a:cubicBezTo>
                <a:cubicBezTo>
                  <a:pt x="944" y="3"/>
                  <a:pt x="882" y="0"/>
                  <a:pt x="815" y="16"/>
                </a:cubicBezTo>
                <a:cubicBezTo>
                  <a:pt x="780" y="33"/>
                  <a:pt x="751" y="49"/>
                  <a:pt x="723" y="77"/>
                </a:cubicBezTo>
                <a:cubicBezTo>
                  <a:pt x="716" y="98"/>
                  <a:pt x="707" y="112"/>
                  <a:pt x="702" y="134"/>
                </a:cubicBezTo>
                <a:cubicBezTo>
                  <a:pt x="695" y="132"/>
                  <a:pt x="575" y="29"/>
                  <a:pt x="569" y="26"/>
                </a:cubicBezTo>
                <a:cubicBezTo>
                  <a:pt x="560" y="22"/>
                  <a:pt x="451" y="1"/>
                  <a:pt x="415" y="31"/>
                </a:cubicBezTo>
                <a:cubicBezTo>
                  <a:pt x="367" y="35"/>
                  <a:pt x="358" y="104"/>
                  <a:pt x="318" y="108"/>
                </a:cubicBezTo>
                <a:cubicBezTo>
                  <a:pt x="283" y="108"/>
                  <a:pt x="245" y="37"/>
                  <a:pt x="205" y="31"/>
                </a:cubicBezTo>
                <a:cubicBezTo>
                  <a:pt x="167" y="34"/>
                  <a:pt x="111" y="61"/>
                  <a:pt x="77" y="72"/>
                </a:cubicBezTo>
                <a:cubicBezTo>
                  <a:pt x="47" y="105"/>
                  <a:pt x="14" y="124"/>
                  <a:pt x="0" y="170"/>
                </a:cubicBezTo>
                <a:cubicBezTo>
                  <a:pt x="7" y="271"/>
                  <a:pt x="23" y="334"/>
                  <a:pt x="108" y="395"/>
                </a:cubicBezTo>
                <a:cubicBezTo>
                  <a:pt x="122" y="417"/>
                  <a:pt x="116" y="424"/>
                  <a:pt x="92" y="431"/>
                </a:cubicBezTo>
                <a:cubicBezTo>
                  <a:pt x="82" y="438"/>
                  <a:pt x="69" y="443"/>
                  <a:pt x="61" y="452"/>
                </a:cubicBezTo>
                <a:cubicBezTo>
                  <a:pt x="56" y="458"/>
                  <a:pt x="55" y="466"/>
                  <a:pt x="51" y="472"/>
                </a:cubicBezTo>
                <a:cubicBezTo>
                  <a:pt x="48" y="476"/>
                  <a:pt x="44" y="479"/>
                  <a:pt x="41" y="483"/>
                </a:cubicBezTo>
                <a:cubicBezTo>
                  <a:pt x="30" y="516"/>
                  <a:pt x="17" y="522"/>
                  <a:pt x="10" y="560"/>
                </a:cubicBezTo>
                <a:cubicBezTo>
                  <a:pt x="13" y="610"/>
                  <a:pt x="6" y="679"/>
                  <a:pt x="56" y="713"/>
                </a:cubicBezTo>
                <a:cubicBezTo>
                  <a:pt x="66" y="720"/>
                  <a:pt x="77" y="723"/>
                  <a:pt x="87" y="729"/>
                </a:cubicBezTo>
                <a:cubicBezTo>
                  <a:pt x="76" y="751"/>
                  <a:pt x="69" y="757"/>
                  <a:pt x="46" y="765"/>
                </a:cubicBezTo>
                <a:cubicBezTo>
                  <a:pt x="32" y="783"/>
                  <a:pt x="22" y="799"/>
                  <a:pt x="15" y="821"/>
                </a:cubicBezTo>
                <a:cubicBezTo>
                  <a:pt x="17" y="845"/>
                  <a:pt x="17" y="869"/>
                  <a:pt x="20" y="893"/>
                </a:cubicBezTo>
                <a:cubicBezTo>
                  <a:pt x="21" y="898"/>
                  <a:pt x="36" y="928"/>
                  <a:pt x="36" y="929"/>
                </a:cubicBezTo>
                <a:cubicBezTo>
                  <a:pt x="84" y="1045"/>
                  <a:pt x="208" y="1047"/>
                  <a:pt x="313" y="1067"/>
                </a:cubicBezTo>
                <a:cubicBezTo>
                  <a:pt x="320" y="1075"/>
                  <a:pt x="347" y="1093"/>
                  <a:pt x="323" y="1093"/>
                </a:cubicBezTo>
                <a:close/>
              </a:path>
            </a:pathLst>
          </a:custGeom>
          <a:solidFill>
            <a:srgbClr val="cecece"/>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6" name=""/>
          <p:cNvSpPr/>
          <p:nvPr/>
        </p:nvSpPr>
        <p:spPr>
          <a:xfrm>
            <a:off x="3581280" y="4648320"/>
            <a:ext cx="2001960" cy="1752480"/>
          </a:xfrm>
          <a:custGeom>
            <a:avLst/>
            <a:gdLst/>
            <a:ahLst/>
            <a:rect l="l" t="t" r="r" b="b"/>
            <a:pathLst>
              <a:path w="1549" h="1437">
                <a:moveTo>
                  <a:pt x="323" y="1093"/>
                </a:moveTo>
                <a:cubicBezTo>
                  <a:pt x="319" y="1130"/>
                  <a:pt x="314" y="1165"/>
                  <a:pt x="308" y="1201"/>
                </a:cubicBezTo>
                <a:cubicBezTo>
                  <a:pt x="323" y="1353"/>
                  <a:pt x="469" y="1424"/>
                  <a:pt x="605" y="1437"/>
                </a:cubicBezTo>
                <a:cubicBezTo>
                  <a:pt x="631" y="1435"/>
                  <a:pt x="657" y="1435"/>
                  <a:pt x="682" y="1431"/>
                </a:cubicBezTo>
                <a:cubicBezTo>
                  <a:pt x="763" y="1418"/>
                  <a:pt x="809" y="1346"/>
                  <a:pt x="856" y="1288"/>
                </a:cubicBezTo>
                <a:cubicBezTo>
                  <a:pt x="858" y="1283"/>
                  <a:pt x="861" y="1278"/>
                  <a:pt x="861" y="1272"/>
                </a:cubicBezTo>
                <a:cubicBezTo>
                  <a:pt x="861" y="1265"/>
                  <a:pt x="852" y="1258"/>
                  <a:pt x="856" y="1252"/>
                </a:cubicBezTo>
                <a:cubicBezTo>
                  <a:pt x="859" y="1248"/>
                  <a:pt x="863" y="1259"/>
                  <a:pt x="867" y="1262"/>
                </a:cubicBezTo>
                <a:cubicBezTo>
                  <a:pt x="880" y="1271"/>
                  <a:pt x="894" y="1279"/>
                  <a:pt x="908" y="1288"/>
                </a:cubicBezTo>
                <a:cubicBezTo>
                  <a:pt x="927" y="1300"/>
                  <a:pt x="963" y="1303"/>
                  <a:pt x="985" y="1308"/>
                </a:cubicBezTo>
                <a:cubicBezTo>
                  <a:pt x="1031" y="1306"/>
                  <a:pt x="1077" y="1307"/>
                  <a:pt x="1123" y="1303"/>
                </a:cubicBezTo>
                <a:cubicBezTo>
                  <a:pt x="1137" y="1302"/>
                  <a:pt x="1164" y="1293"/>
                  <a:pt x="1164" y="1293"/>
                </a:cubicBezTo>
                <a:cubicBezTo>
                  <a:pt x="1220" y="1261"/>
                  <a:pt x="1269" y="1233"/>
                  <a:pt x="1308" y="1180"/>
                </a:cubicBezTo>
                <a:cubicBezTo>
                  <a:pt x="1315" y="1160"/>
                  <a:pt x="1323" y="1140"/>
                  <a:pt x="1328" y="1119"/>
                </a:cubicBezTo>
                <a:cubicBezTo>
                  <a:pt x="1330" y="1097"/>
                  <a:pt x="1328" y="1074"/>
                  <a:pt x="1333" y="1052"/>
                </a:cubicBezTo>
                <a:cubicBezTo>
                  <a:pt x="1336" y="1038"/>
                  <a:pt x="1375" y="1020"/>
                  <a:pt x="1385" y="1011"/>
                </a:cubicBezTo>
                <a:cubicBezTo>
                  <a:pt x="1422" y="978"/>
                  <a:pt x="1451" y="930"/>
                  <a:pt x="1492" y="903"/>
                </a:cubicBezTo>
                <a:cubicBezTo>
                  <a:pt x="1508" y="874"/>
                  <a:pt x="1529" y="848"/>
                  <a:pt x="1538" y="816"/>
                </a:cubicBezTo>
                <a:cubicBezTo>
                  <a:pt x="1542" y="801"/>
                  <a:pt x="1549" y="770"/>
                  <a:pt x="1549" y="770"/>
                </a:cubicBezTo>
                <a:cubicBezTo>
                  <a:pt x="1544" y="724"/>
                  <a:pt x="1538" y="678"/>
                  <a:pt x="1518" y="636"/>
                </a:cubicBezTo>
                <a:cubicBezTo>
                  <a:pt x="1510" y="594"/>
                  <a:pt x="1517" y="619"/>
                  <a:pt x="1492" y="565"/>
                </a:cubicBezTo>
                <a:cubicBezTo>
                  <a:pt x="1476" y="530"/>
                  <a:pt x="1488" y="523"/>
                  <a:pt x="1461" y="498"/>
                </a:cubicBezTo>
                <a:cubicBezTo>
                  <a:pt x="1477" y="476"/>
                  <a:pt x="1501" y="452"/>
                  <a:pt x="1523" y="436"/>
                </a:cubicBezTo>
                <a:cubicBezTo>
                  <a:pt x="1537" y="393"/>
                  <a:pt x="1532" y="416"/>
                  <a:pt x="1538" y="365"/>
                </a:cubicBezTo>
                <a:cubicBezTo>
                  <a:pt x="1522" y="249"/>
                  <a:pt x="1482" y="214"/>
                  <a:pt x="1390" y="149"/>
                </a:cubicBezTo>
                <a:cubicBezTo>
                  <a:pt x="1342" y="115"/>
                  <a:pt x="1304" y="76"/>
                  <a:pt x="1246" y="62"/>
                </a:cubicBezTo>
                <a:cubicBezTo>
                  <a:pt x="1204" y="66"/>
                  <a:pt x="1192" y="65"/>
                  <a:pt x="1159" y="83"/>
                </a:cubicBezTo>
                <a:cubicBezTo>
                  <a:pt x="1146" y="69"/>
                  <a:pt x="1136" y="50"/>
                  <a:pt x="1123" y="36"/>
                </a:cubicBezTo>
                <a:cubicBezTo>
                  <a:pt x="1104" y="16"/>
                  <a:pt x="1043" y="8"/>
                  <a:pt x="1015" y="1"/>
                </a:cubicBezTo>
                <a:cubicBezTo>
                  <a:pt x="944" y="3"/>
                  <a:pt x="882" y="0"/>
                  <a:pt x="815" y="16"/>
                </a:cubicBezTo>
                <a:cubicBezTo>
                  <a:pt x="780" y="33"/>
                  <a:pt x="751" y="49"/>
                  <a:pt x="723" y="77"/>
                </a:cubicBezTo>
                <a:cubicBezTo>
                  <a:pt x="716" y="98"/>
                  <a:pt x="707" y="112"/>
                  <a:pt x="702" y="134"/>
                </a:cubicBezTo>
                <a:cubicBezTo>
                  <a:pt x="695" y="132"/>
                  <a:pt x="575" y="29"/>
                  <a:pt x="569" y="26"/>
                </a:cubicBezTo>
                <a:cubicBezTo>
                  <a:pt x="560" y="22"/>
                  <a:pt x="451" y="1"/>
                  <a:pt x="415" y="31"/>
                </a:cubicBezTo>
                <a:cubicBezTo>
                  <a:pt x="367" y="35"/>
                  <a:pt x="358" y="104"/>
                  <a:pt x="318" y="108"/>
                </a:cubicBezTo>
                <a:cubicBezTo>
                  <a:pt x="283" y="108"/>
                  <a:pt x="245" y="37"/>
                  <a:pt x="205" y="31"/>
                </a:cubicBezTo>
                <a:cubicBezTo>
                  <a:pt x="167" y="34"/>
                  <a:pt x="111" y="61"/>
                  <a:pt x="77" y="72"/>
                </a:cubicBezTo>
                <a:cubicBezTo>
                  <a:pt x="47" y="105"/>
                  <a:pt x="14" y="124"/>
                  <a:pt x="0" y="170"/>
                </a:cubicBezTo>
                <a:cubicBezTo>
                  <a:pt x="7" y="271"/>
                  <a:pt x="23" y="334"/>
                  <a:pt x="108" y="395"/>
                </a:cubicBezTo>
                <a:cubicBezTo>
                  <a:pt x="122" y="417"/>
                  <a:pt x="116" y="424"/>
                  <a:pt x="92" y="431"/>
                </a:cubicBezTo>
                <a:cubicBezTo>
                  <a:pt x="82" y="438"/>
                  <a:pt x="69" y="443"/>
                  <a:pt x="61" y="452"/>
                </a:cubicBezTo>
                <a:cubicBezTo>
                  <a:pt x="56" y="458"/>
                  <a:pt x="55" y="466"/>
                  <a:pt x="51" y="472"/>
                </a:cubicBezTo>
                <a:cubicBezTo>
                  <a:pt x="48" y="476"/>
                  <a:pt x="44" y="479"/>
                  <a:pt x="41" y="483"/>
                </a:cubicBezTo>
                <a:cubicBezTo>
                  <a:pt x="30" y="516"/>
                  <a:pt x="17" y="522"/>
                  <a:pt x="10" y="560"/>
                </a:cubicBezTo>
                <a:cubicBezTo>
                  <a:pt x="13" y="610"/>
                  <a:pt x="6" y="679"/>
                  <a:pt x="56" y="713"/>
                </a:cubicBezTo>
                <a:cubicBezTo>
                  <a:pt x="66" y="720"/>
                  <a:pt x="77" y="723"/>
                  <a:pt x="87" y="729"/>
                </a:cubicBezTo>
                <a:cubicBezTo>
                  <a:pt x="76" y="751"/>
                  <a:pt x="69" y="757"/>
                  <a:pt x="46" y="765"/>
                </a:cubicBezTo>
                <a:cubicBezTo>
                  <a:pt x="32" y="783"/>
                  <a:pt x="22" y="799"/>
                  <a:pt x="15" y="821"/>
                </a:cubicBezTo>
                <a:cubicBezTo>
                  <a:pt x="17" y="845"/>
                  <a:pt x="17" y="869"/>
                  <a:pt x="20" y="893"/>
                </a:cubicBezTo>
                <a:cubicBezTo>
                  <a:pt x="21" y="898"/>
                  <a:pt x="36" y="928"/>
                  <a:pt x="36" y="929"/>
                </a:cubicBezTo>
                <a:cubicBezTo>
                  <a:pt x="84" y="1045"/>
                  <a:pt x="208" y="1047"/>
                  <a:pt x="313" y="1067"/>
                </a:cubicBezTo>
                <a:cubicBezTo>
                  <a:pt x="320" y="1075"/>
                  <a:pt x="347" y="1093"/>
                  <a:pt x="323" y="1093"/>
                </a:cubicBezTo>
                <a:close/>
              </a:path>
            </a:pathLst>
          </a:custGeom>
          <a:solidFill>
            <a:srgbClr val="cecece"/>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7" name=""/>
          <p:cNvSpPr/>
          <p:nvPr/>
        </p:nvSpPr>
        <p:spPr>
          <a:xfrm>
            <a:off x="3582720" y="4723560"/>
            <a:ext cx="112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2</a:t>
            </a:r>
            <a:endParaRPr b="0" lang="en-US" sz="1800" spc="-1" strike="noStrike">
              <a:solidFill>
                <a:srgbClr val="000000"/>
              </a:solidFill>
              <a:latin typeface="Times New Roman"/>
            </a:endParaRPr>
          </a:p>
        </p:txBody>
      </p:sp>
      <p:sp>
        <p:nvSpPr>
          <p:cNvPr id="298" name=""/>
          <p:cNvSpPr/>
          <p:nvPr/>
        </p:nvSpPr>
        <p:spPr>
          <a:xfrm>
            <a:off x="6478560" y="4723560"/>
            <a:ext cx="112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3</a:t>
            </a:r>
            <a:endParaRPr b="0" lang="en-US" sz="1800" spc="-1" strike="noStrike">
              <a:solidFill>
                <a:srgbClr val="000000"/>
              </a:solidFill>
              <a:latin typeface="Times New Roman"/>
            </a:endParaRPr>
          </a:p>
        </p:txBody>
      </p:sp>
      <p:sp>
        <p:nvSpPr>
          <p:cNvPr id="299" name=""/>
          <p:cNvSpPr/>
          <p:nvPr/>
        </p:nvSpPr>
        <p:spPr>
          <a:xfrm>
            <a:off x="838080" y="4648320"/>
            <a:ext cx="1981440" cy="1752480"/>
          </a:xfrm>
          <a:custGeom>
            <a:avLst/>
            <a:gdLst/>
            <a:ahLst/>
            <a:rect l="l" t="t" r="r" b="b"/>
            <a:pathLst>
              <a:path w="1549" h="1437">
                <a:moveTo>
                  <a:pt x="323" y="1093"/>
                </a:moveTo>
                <a:cubicBezTo>
                  <a:pt x="319" y="1130"/>
                  <a:pt x="314" y="1165"/>
                  <a:pt x="308" y="1201"/>
                </a:cubicBezTo>
                <a:cubicBezTo>
                  <a:pt x="323" y="1353"/>
                  <a:pt x="469" y="1424"/>
                  <a:pt x="605" y="1437"/>
                </a:cubicBezTo>
                <a:cubicBezTo>
                  <a:pt x="631" y="1435"/>
                  <a:pt x="657" y="1435"/>
                  <a:pt x="682" y="1431"/>
                </a:cubicBezTo>
                <a:cubicBezTo>
                  <a:pt x="763" y="1418"/>
                  <a:pt x="809" y="1346"/>
                  <a:pt x="856" y="1288"/>
                </a:cubicBezTo>
                <a:cubicBezTo>
                  <a:pt x="858" y="1283"/>
                  <a:pt x="861" y="1278"/>
                  <a:pt x="861" y="1272"/>
                </a:cubicBezTo>
                <a:cubicBezTo>
                  <a:pt x="861" y="1265"/>
                  <a:pt x="852" y="1258"/>
                  <a:pt x="856" y="1252"/>
                </a:cubicBezTo>
                <a:cubicBezTo>
                  <a:pt x="859" y="1248"/>
                  <a:pt x="863" y="1259"/>
                  <a:pt x="867" y="1262"/>
                </a:cubicBezTo>
                <a:cubicBezTo>
                  <a:pt x="880" y="1271"/>
                  <a:pt x="894" y="1279"/>
                  <a:pt x="908" y="1288"/>
                </a:cubicBezTo>
                <a:cubicBezTo>
                  <a:pt x="927" y="1300"/>
                  <a:pt x="963" y="1303"/>
                  <a:pt x="985" y="1308"/>
                </a:cubicBezTo>
                <a:cubicBezTo>
                  <a:pt x="1031" y="1306"/>
                  <a:pt x="1077" y="1307"/>
                  <a:pt x="1123" y="1303"/>
                </a:cubicBezTo>
                <a:cubicBezTo>
                  <a:pt x="1137" y="1302"/>
                  <a:pt x="1164" y="1293"/>
                  <a:pt x="1164" y="1293"/>
                </a:cubicBezTo>
                <a:cubicBezTo>
                  <a:pt x="1220" y="1261"/>
                  <a:pt x="1269" y="1233"/>
                  <a:pt x="1308" y="1180"/>
                </a:cubicBezTo>
                <a:cubicBezTo>
                  <a:pt x="1315" y="1160"/>
                  <a:pt x="1323" y="1140"/>
                  <a:pt x="1328" y="1119"/>
                </a:cubicBezTo>
                <a:cubicBezTo>
                  <a:pt x="1330" y="1097"/>
                  <a:pt x="1328" y="1074"/>
                  <a:pt x="1333" y="1052"/>
                </a:cubicBezTo>
                <a:cubicBezTo>
                  <a:pt x="1336" y="1038"/>
                  <a:pt x="1375" y="1020"/>
                  <a:pt x="1385" y="1011"/>
                </a:cubicBezTo>
                <a:cubicBezTo>
                  <a:pt x="1422" y="978"/>
                  <a:pt x="1451" y="930"/>
                  <a:pt x="1492" y="903"/>
                </a:cubicBezTo>
                <a:cubicBezTo>
                  <a:pt x="1508" y="874"/>
                  <a:pt x="1529" y="848"/>
                  <a:pt x="1538" y="816"/>
                </a:cubicBezTo>
                <a:cubicBezTo>
                  <a:pt x="1542" y="801"/>
                  <a:pt x="1549" y="770"/>
                  <a:pt x="1549" y="770"/>
                </a:cubicBezTo>
                <a:cubicBezTo>
                  <a:pt x="1544" y="724"/>
                  <a:pt x="1538" y="678"/>
                  <a:pt x="1518" y="636"/>
                </a:cubicBezTo>
                <a:cubicBezTo>
                  <a:pt x="1510" y="594"/>
                  <a:pt x="1517" y="619"/>
                  <a:pt x="1492" y="565"/>
                </a:cubicBezTo>
                <a:cubicBezTo>
                  <a:pt x="1476" y="530"/>
                  <a:pt x="1488" y="523"/>
                  <a:pt x="1461" y="498"/>
                </a:cubicBezTo>
                <a:cubicBezTo>
                  <a:pt x="1477" y="476"/>
                  <a:pt x="1501" y="452"/>
                  <a:pt x="1523" y="436"/>
                </a:cubicBezTo>
                <a:cubicBezTo>
                  <a:pt x="1537" y="393"/>
                  <a:pt x="1532" y="416"/>
                  <a:pt x="1538" y="365"/>
                </a:cubicBezTo>
                <a:cubicBezTo>
                  <a:pt x="1522" y="249"/>
                  <a:pt x="1482" y="214"/>
                  <a:pt x="1390" y="149"/>
                </a:cubicBezTo>
                <a:cubicBezTo>
                  <a:pt x="1342" y="115"/>
                  <a:pt x="1304" y="76"/>
                  <a:pt x="1246" y="62"/>
                </a:cubicBezTo>
                <a:cubicBezTo>
                  <a:pt x="1204" y="66"/>
                  <a:pt x="1192" y="65"/>
                  <a:pt x="1159" y="83"/>
                </a:cubicBezTo>
                <a:cubicBezTo>
                  <a:pt x="1146" y="69"/>
                  <a:pt x="1136" y="50"/>
                  <a:pt x="1123" y="36"/>
                </a:cubicBezTo>
                <a:cubicBezTo>
                  <a:pt x="1104" y="16"/>
                  <a:pt x="1043" y="8"/>
                  <a:pt x="1015" y="1"/>
                </a:cubicBezTo>
                <a:cubicBezTo>
                  <a:pt x="944" y="3"/>
                  <a:pt x="882" y="0"/>
                  <a:pt x="815" y="16"/>
                </a:cubicBezTo>
                <a:cubicBezTo>
                  <a:pt x="780" y="33"/>
                  <a:pt x="751" y="49"/>
                  <a:pt x="723" y="77"/>
                </a:cubicBezTo>
                <a:cubicBezTo>
                  <a:pt x="716" y="98"/>
                  <a:pt x="707" y="112"/>
                  <a:pt x="702" y="134"/>
                </a:cubicBezTo>
                <a:cubicBezTo>
                  <a:pt x="695" y="132"/>
                  <a:pt x="575" y="29"/>
                  <a:pt x="569" y="26"/>
                </a:cubicBezTo>
                <a:cubicBezTo>
                  <a:pt x="560" y="22"/>
                  <a:pt x="451" y="1"/>
                  <a:pt x="415" y="31"/>
                </a:cubicBezTo>
                <a:cubicBezTo>
                  <a:pt x="367" y="35"/>
                  <a:pt x="358" y="104"/>
                  <a:pt x="318" y="108"/>
                </a:cubicBezTo>
                <a:cubicBezTo>
                  <a:pt x="283" y="108"/>
                  <a:pt x="245" y="37"/>
                  <a:pt x="205" y="31"/>
                </a:cubicBezTo>
                <a:cubicBezTo>
                  <a:pt x="167" y="34"/>
                  <a:pt x="111" y="61"/>
                  <a:pt x="77" y="72"/>
                </a:cubicBezTo>
                <a:cubicBezTo>
                  <a:pt x="47" y="105"/>
                  <a:pt x="14" y="124"/>
                  <a:pt x="0" y="170"/>
                </a:cubicBezTo>
                <a:cubicBezTo>
                  <a:pt x="7" y="271"/>
                  <a:pt x="23" y="334"/>
                  <a:pt x="108" y="395"/>
                </a:cubicBezTo>
                <a:cubicBezTo>
                  <a:pt x="122" y="417"/>
                  <a:pt x="116" y="424"/>
                  <a:pt x="92" y="431"/>
                </a:cubicBezTo>
                <a:cubicBezTo>
                  <a:pt x="82" y="438"/>
                  <a:pt x="69" y="443"/>
                  <a:pt x="61" y="452"/>
                </a:cubicBezTo>
                <a:cubicBezTo>
                  <a:pt x="56" y="458"/>
                  <a:pt x="55" y="466"/>
                  <a:pt x="51" y="472"/>
                </a:cubicBezTo>
                <a:cubicBezTo>
                  <a:pt x="48" y="476"/>
                  <a:pt x="44" y="479"/>
                  <a:pt x="41" y="483"/>
                </a:cubicBezTo>
                <a:cubicBezTo>
                  <a:pt x="30" y="516"/>
                  <a:pt x="17" y="522"/>
                  <a:pt x="10" y="560"/>
                </a:cubicBezTo>
                <a:cubicBezTo>
                  <a:pt x="13" y="610"/>
                  <a:pt x="6" y="679"/>
                  <a:pt x="56" y="713"/>
                </a:cubicBezTo>
                <a:cubicBezTo>
                  <a:pt x="66" y="720"/>
                  <a:pt x="77" y="723"/>
                  <a:pt x="87" y="729"/>
                </a:cubicBezTo>
                <a:cubicBezTo>
                  <a:pt x="76" y="751"/>
                  <a:pt x="69" y="757"/>
                  <a:pt x="46" y="765"/>
                </a:cubicBezTo>
                <a:cubicBezTo>
                  <a:pt x="32" y="783"/>
                  <a:pt x="22" y="799"/>
                  <a:pt x="15" y="821"/>
                </a:cubicBezTo>
                <a:cubicBezTo>
                  <a:pt x="17" y="845"/>
                  <a:pt x="17" y="869"/>
                  <a:pt x="20" y="893"/>
                </a:cubicBezTo>
                <a:cubicBezTo>
                  <a:pt x="21" y="898"/>
                  <a:pt x="36" y="928"/>
                  <a:pt x="36" y="929"/>
                </a:cubicBezTo>
                <a:cubicBezTo>
                  <a:pt x="84" y="1045"/>
                  <a:pt x="208" y="1047"/>
                  <a:pt x="313" y="1067"/>
                </a:cubicBezTo>
                <a:cubicBezTo>
                  <a:pt x="320" y="1075"/>
                  <a:pt x="347" y="1093"/>
                  <a:pt x="323" y="1093"/>
                </a:cubicBezTo>
                <a:close/>
              </a:path>
            </a:pathLst>
          </a:custGeom>
          <a:solidFill>
            <a:srgbClr val="cecece"/>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0" name=""/>
          <p:cNvSpPr/>
          <p:nvPr/>
        </p:nvSpPr>
        <p:spPr>
          <a:xfrm>
            <a:off x="839520" y="4723560"/>
            <a:ext cx="112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1</a:t>
            </a:r>
            <a:endParaRPr b="0" lang="en-US" sz="1800" spc="-1" strike="noStrike">
              <a:solidFill>
                <a:srgbClr val="000000"/>
              </a:solidFill>
              <a:latin typeface="Times New Roman"/>
            </a:endParaRPr>
          </a:p>
        </p:txBody>
      </p:sp>
      <p:sp>
        <p:nvSpPr>
          <p:cNvPr id="301" name=""/>
          <p:cNvSpPr/>
          <p:nvPr/>
        </p:nvSpPr>
        <p:spPr>
          <a:xfrm>
            <a:off x="251460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
        <p:nvSpPr>
          <p:cNvPr id="302" name=""/>
          <p:cNvSpPr/>
          <p:nvPr/>
        </p:nvSpPr>
        <p:spPr>
          <a:xfrm>
            <a:off x="2971800" y="54100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715000" y="5410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fferentiated Services</a:t>
            </a:r>
            <a:endParaRPr b="1" i="1" lang="en-US" sz="4400" spc="-1" strike="noStrike">
              <a:solidFill>
                <a:srgbClr val="00279f"/>
              </a:solidFill>
              <a:latin typeface="Times New Roman"/>
            </a:endParaRPr>
          </a:p>
        </p:txBody>
      </p:sp>
      <p:sp>
        <p:nvSpPr>
          <p:cNvPr id="305" name="PlaceHolder 2"/>
          <p:cNvSpPr>
            <a:spLocks noGrp="1"/>
          </p:cNvSpPr>
          <p:nvPr>
            <p:ph/>
          </p:nvPr>
        </p:nvSpPr>
        <p:spPr>
          <a:xfrm>
            <a:off x="685800" y="1447920"/>
            <a:ext cx="7772400" cy="2666880"/>
          </a:xfrm>
          <a:prstGeom prst="rect">
            <a:avLst/>
          </a:prstGeom>
          <a:noFill/>
          <a:ln w="0">
            <a:noFill/>
          </a:ln>
        </p:spPr>
        <p:txBody>
          <a:bodyPr lIns="90360" rIns="90360" tIns="44280" bIns="44280" anchor="t">
            <a:normAutofit fontScale="86000"/>
          </a:bodyPr>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ly work at border/edge routers</a:t>
            </a:r>
            <a:endParaRPr b="0" lang="en-US" sz="32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shaping, policing, priority re-marking</a:t>
            </a:r>
            <a:endParaRPr b="0" i="1" lang="en-US" sz="24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routers use simple priority queuing</a:t>
            </a:r>
            <a:endParaRPr b="0" lang="en-US" sz="32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haviors</a:t>
            </a:r>
            <a:endParaRPr b="0" lang="en-US" sz="32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hop behavior defined (within domain)</a:t>
            </a:r>
            <a:endParaRPr b="0" i="1" lang="en-US" sz="24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to-end behavior undefined (across domains)</a:t>
            </a:r>
            <a:endParaRPr b="0" i="1" lang="en-US" sz="2400" spc="-1" strike="noStrike">
              <a:solidFill>
                <a:srgbClr val="000000"/>
              </a:solidFill>
              <a:latin typeface="Times New Roman"/>
            </a:endParaRPr>
          </a:p>
        </p:txBody>
      </p:sp>
      <p:sp>
        <p:nvSpPr>
          <p:cNvPr id="306" name=""/>
          <p:cNvSpPr/>
          <p:nvPr/>
        </p:nvSpPr>
        <p:spPr>
          <a:xfrm>
            <a:off x="350532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
        <p:nvSpPr>
          <p:cNvPr id="307" name=""/>
          <p:cNvSpPr/>
          <p:nvPr/>
        </p:nvSpPr>
        <p:spPr>
          <a:xfrm>
            <a:off x="525780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
        <p:nvSpPr>
          <p:cNvPr id="308" name=""/>
          <p:cNvSpPr/>
          <p:nvPr/>
        </p:nvSpPr>
        <p:spPr>
          <a:xfrm>
            <a:off x="632448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s</a:t>
            </a:r>
            <a:endParaRPr b="1" i="1" lang="en-US" sz="4400" spc="-1" strike="noStrike">
              <a:solidFill>
                <a:srgbClr val="00279f"/>
              </a:solidFill>
              <a:latin typeface="Times New Roman"/>
            </a:endParaRPr>
          </a:p>
        </p:txBody>
      </p:sp>
      <p:sp>
        <p:nvSpPr>
          <p:cNvPr id="31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ers and switches perform customized computation on behalf of user appli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data can be modifi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asts with receive and forward architectur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icult to add new services to networks</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multicast took almost 10 years to get into network</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resource reservation in network</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ccelerate infrastructure innovation</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innovation is too sl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 Approaches</a:t>
            </a:r>
            <a:endParaRPr b="1" i="1" lang="en-US" sz="4400" spc="-1" strike="noStrike">
              <a:solidFill>
                <a:srgbClr val="00279f"/>
              </a:solidFill>
              <a:latin typeface="Times New Roman"/>
            </a:endParaRPr>
          </a:p>
        </p:txBody>
      </p:sp>
      <p:sp>
        <p:nvSpPr>
          <p:cNvPr id="31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within current IP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of-band communication between application and routers to install customized cod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new packet forma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header contains program</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contains data, but program can operate on dat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formance, security, easy of us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pen Extensible Gateway (OEG)</a:t>
            </a:r>
            <a:br>
              <a:rPr sz="4400"/>
            </a:br>
            <a:r>
              <a:rPr b="1" i="1" lang="en-US" sz="2800" spc="-1" strike="noStrike">
                <a:solidFill>
                  <a:srgbClr val="00279f"/>
                </a:solidFill>
                <a:latin typeface="Times New Roman"/>
              </a:rPr>
              <a:t>“Toolkit for Application Specific Gateways”</a:t>
            </a:r>
            <a:endParaRPr b="1" i="1" lang="en-US" sz="2800" spc="-1" strike="noStrike">
              <a:solidFill>
                <a:srgbClr val="00279f"/>
              </a:solidFill>
              <a:latin typeface="Times New Roman"/>
            </a:endParaRPr>
          </a:p>
        </p:txBody>
      </p:sp>
      <p:sp>
        <p:nvSpPr>
          <p:cNvPr id="314" name="PlaceHolder 2"/>
          <p:cNvSpPr>
            <a:spLocks noGrp="1"/>
          </p:cNvSpPr>
          <p:nvPr>
            <p:ph/>
          </p:nvPr>
        </p:nvSpPr>
        <p:spPr>
          <a:xfrm>
            <a:off x="685800" y="1828800"/>
            <a:ext cx="7772400" cy="4572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s run variety of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s usually implemented independent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way to dynamically add new gatewa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EG defines a toolkit to build and deploy gatewa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band service deploy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RSV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ther Networking Issues</a:t>
            </a:r>
            <a:endParaRPr b="1" i="1" lang="en-US" sz="4400" spc="-1" strike="noStrike">
              <a:solidFill>
                <a:srgbClr val="00279f"/>
              </a:solidFill>
              <a:latin typeface="Times New Roman"/>
            </a:endParaRPr>
          </a:p>
        </p:txBody>
      </p:sp>
      <p:sp>
        <p:nvSpPr>
          <p:cNvPr id="31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s rapid growth raised concern that there are not enough IP addresse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d to development of Classless Inter-Domain Routing (CIDR) and Network Address Translation (NA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nies want to build private networks using the public Int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d to the development of Virtual Private Networks (VP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P Address Depletion</a:t>
            </a:r>
            <a:endParaRPr b="1" i="1" lang="en-US" sz="4400" spc="-1" strike="noStrike">
              <a:solidFill>
                <a:srgbClr val="00279f"/>
              </a:solidFill>
              <a:latin typeface="Times New Roman"/>
            </a:endParaRPr>
          </a:p>
        </p:txBody>
      </p:sp>
      <p:sp>
        <p:nvSpPr>
          <p:cNvPr id="31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es divided into cla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A: 256 addresses (195.199.1.*)</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B: 65536 addresses (128.32.*.*)</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C: 2^24 addresses (18.*.*.*)</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nough block sizes to reflect network nee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etwork Address Translation (NAT)</a:t>
            </a:r>
            <a:endParaRPr b="1" i="1" lang="en-US" sz="4400" spc="-1" strike="noStrike">
              <a:solidFill>
                <a:srgbClr val="00279f"/>
              </a:solidFill>
              <a:latin typeface="Times New Roman"/>
            </a:endParaRPr>
          </a:p>
        </p:txBody>
      </p:sp>
      <p:sp>
        <p:nvSpPr>
          <p:cNvPr id="32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privately addressed networks to function on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at most a few IP addresses per network, reducing global IP address dem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u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tter site secur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balancing web ser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balancing network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Private Networks (VPN)</a:t>
            </a:r>
            <a:endParaRPr b="1" i="1" lang="en-US" sz="4400" spc="-1" strike="noStrike">
              <a:solidFill>
                <a:srgbClr val="00279f"/>
              </a:solidFill>
              <a:latin typeface="Times New Roman"/>
            </a:endParaRPr>
          </a:p>
        </p:txBody>
      </p:sp>
      <p:sp>
        <p:nvSpPr>
          <p:cNvPr id="3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defini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VPN is a private network constructed within the public Interne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 logical network from networks at remote lo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remote users to home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shared infrastructure reduces cost of building net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 of Presentations</a:t>
            </a:r>
            <a:endParaRPr b="1" i="1" lang="en-US" sz="4400" spc="-1" strike="noStrike">
              <a:solidFill>
                <a:srgbClr val="00279f"/>
              </a:solidFill>
              <a:latin typeface="Times New Roman"/>
            </a:endParaRPr>
          </a:p>
        </p:txBody>
      </p:sp>
      <p:sp>
        <p:nvSpPr>
          <p:cNvPr id="32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multicast and basic multicast rout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l-time protocol, receiver driven layered multicast, and reliable multicast</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pen Extensible Gateway</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orrow</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rVation Protocol (RSVP) and Integrated Service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iated Service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routing protocols (CBT, PIM, BGMP)</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irtual Private Networks and Network Address Transl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pplication Demand</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o/video, telephony, collaboration, and distance lear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distribution (e.g. news, software, stock ticker,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o and television style broadcasting (e.g. RealAud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is essenti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of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and overwhelms network capac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network model is best effor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guarantees on quality of servi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at variability in network technology and service (ATM, Ethernet, wirel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want ubiquitous, reliable, high quality applications and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at is multicast?</a:t>
            </a:r>
            <a:endParaRPr b="1" i="1" lang="en-US" sz="4400" spc="-1" strike="noStrike">
              <a:solidFill>
                <a:srgbClr val="00279f"/>
              </a:solidFill>
              <a:latin typeface="Times New Roman"/>
            </a:endParaRPr>
          </a:p>
        </p:txBody>
      </p:sp>
      <p:sp>
        <p:nvSpPr>
          <p:cNvPr id="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 N commun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hardware efficiently supports multicast transpor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 Ethernet allows one packet to be received by many hos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different protocols and service model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 IETF IP Multicast, ATM Multipoi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Unicast</a:t>
            </a:r>
            <a:endParaRPr b="1" i="1" lang="en-US" sz="4400" spc="-1" strike="noStrike">
              <a:solidFill>
                <a:srgbClr val="00279f"/>
              </a:solidFill>
              <a:latin typeface="Times New Roman"/>
            </a:endParaRPr>
          </a:p>
        </p:txBody>
      </p:sp>
      <p:sp>
        <p:nvSpPr>
          <p:cNvPr id="57"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58" name=""/>
          <p:cNvGrpSpPr/>
          <p:nvPr/>
        </p:nvGrpSpPr>
        <p:grpSpPr>
          <a:xfrm>
            <a:off x="6400800" y="1905120"/>
            <a:ext cx="457200" cy="456840"/>
            <a:chOff x="6400800" y="1905120"/>
            <a:chExt cx="457200" cy="456840"/>
          </a:xfrm>
        </p:grpSpPr>
        <p:sp>
          <p:nvSpPr>
            <p:cNvPr id="59"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0"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1" name=""/>
          <p:cNvSpPr/>
          <p:nvPr/>
        </p:nvSpPr>
        <p:spPr>
          <a:xfrm>
            <a:off x="640080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2" name=""/>
          <p:cNvSpPr/>
          <p:nvPr/>
        </p:nvSpPr>
        <p:spPr>
          <a:xfrm>
            <a:off x="670572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3"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74"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ing same data to many receivers via unicast is inefficient</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pular WWW sites become serious bottlenecks</a:t>
            </a:r>
            <a:endParaRPr b="0" lang="en-US" sz="2400" spc="-1" strike="noStrike">
              <a:solidFill>
                <a:srgbClr val="000000"/>
              </a:solidFill>
              <a:latin typeface="Times New Roman"/>
            </a:endParaRPr>
          </a:p>
        </p:txBody>
      </p:sp>
      <p:grpSp>
        <p:nvGrpSpPr>
          <p:cNvPr id="75" name=""/>
          <p:cNvGrpSpPr/>
          <p:nvPr/>
        </p:nvGrpSpPr>
        <p:grpSpPr>
          <a:xfrm>
            <a:off x="5029200" y="4952880"/>
            <a:ext cx="457200" cy="456840"/>
            <a:chOff x="5029200" y="4952880"/>
            <a:chExt cx="457200" cy="456840"/>
          </a:xfrm>
        </p:grpSpPr>
        <p:sp>
          <p:nvSpPr>
            <p:cNvPr id="76"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8"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7" name=""/>
          <p:cNvGrpSpPr/>
          <p:nvPr/>
        </p:nvGrpSpPr>
        <p:grpSpPr>
          <a:xfrm>
            <a:off x="6477120" y="4952880"/>
            <a:ext cx="457200" cy="456840"/>
            <a:chOff x="6477120" y="4952880"/>
            <a:chExt cx="457200" cy="456840"/>
          </a:xfrm>
        </p:grpSpPr>
        <p:sp>
          <p:nvSpPr>
            <p:cNvPr id="88"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0"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9" name=""/>
          <p:cNvGrpSpPr/>
          <p:nvPr/>
        </p:nvGrpSpPr>
        <p:grpSpPr>
          <a:xfrm>
            <a:off x="7696080" y="4952880"/>
            <a:ext cx="457200" cy="456840"/>
            <a:chOff x="7696080" y="4952880"/>
            <a:chExt cx="457200" cy="456840"/>
          </a:xfrm>
        </p:grpSpPr>
        <p:sp>
          <p:nvSpPr>
            <p:cNvPr id="100"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2"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11"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2"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3"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a:t>
            </a:r>
            <a:endParaRPr b="1" i="1" lang="en-US" sz="4400" spc="-1" strike="noStrike">
              <a:solidFill>
                <a:srgbClr val="00279f"/>
              </a:solidFill>
              <a:latin typeface="Times New Roman"/>
            </a:endParaRPr>
          </a:p>
        </p:txBody>
      </p:sp>
      <p:sp>
        <p:nvSpPr>
          <p:cNvPr id="115"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116" name=""/>
          <p:cNvGrpSpPr/>
          <p:nvPr/>
        </p:nvGrpSpPr>
        <p:grpSpPr>
          <a:xfrm>
            <a:off x="5029200" y="4952880"/>
            <a:ext cx="457200" cy="456840"/>
            <a:chOff x="5029200" y="4952880"/>
            <a:chExt cx="457200" cy="456840"/>
          </a:xfrm>
        </p:grpSpPr>
        <p:sp>
          <p:nvSpPr>
            <p:cNvPr id="117"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9"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 name=""/>
          <p:cNvGrpSpPr/>
          <p:nvPr/>
        </p:nvGrpSpPr>
        <p:grpSpPr>
          <a:xfrm>
            <a:off x="6477120" y="4952880"/>
            <a:ext cx="457200" cy="456840"/>
            <a:chOff x="6477120" y="4952880"/>
            <a:chExt cx="457200" cy="456840"/>
          </a:xfrm>
        </p:grpSpPr>
        <p:sp>
          <p:nvSpPr>
            <p:cNvPr id="129"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1"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0" name=""/>
          <p:cNvGrpSpPr/>
          <p:nvPr/>
        </p:nvGrpSpPr>
        <p:grpSpPr>
          <a:xfrm>
            <a:off x="7696080" y="4952880"/>
            <a:ext cx="457200" cy="456840"/>
            <a:chOff x="7696080" y="4952880"/>
            <a:chExt cx="457200" cy="456840"/>
          </a:xfrm>
        </p:grpSpPr>
        <p:sp>
          <p:nvSpPr>
            <p:cNvPr id="141"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3"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2" name=""/>
          <p:cNvGrpSpPr/>
          <p:nvPr/>
        </p:nvGrpSpPr>
        <p:grpSpPr>
          <a:xfrm>
            <a:off x="6400800" y="1905120"/>
            <a:ext cx="457200" cy="456840"/>
            <a:chOff x="6400800" y="1905120"/>
            <a:chExt cx="457200" cy="456840"/>
          </a:xfrm>
        </p:grpSpPr>
        <p:sp>
          <p:nvSpPr>
            <p:cNvPr id="153"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5"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4"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5"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6"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7"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8"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169"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one to many data distribu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Bone</a:t>
            </a:r>
            <a:endParaRPr b="1" i="1" lang="en-US" sz="4400" spc="-1" strike="noStrike">
              <a:solidFill>
                <a:srgbClr val="00279f"/>
              </a:solidFill>
              <a:latin typeface="Times New Roman"/>
            </a:endParaRPr>
          </a:p>
        </p:txBody>
      </p:sp>
      <p:sp>
        <p:nvSpPr>
          <p:cNvPr id="1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92, the MBone was created to further the development of IP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global multicast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d as a testbed for multicast applications develop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 audio to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ic -- video to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b -- shared whiteboar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7-03-11T10:59:34Z</cp:lastPrinted>
  <dcterms:modified xsi:type="dcterms:W3CDTF">1998-03-17T19:07:38Z</dcterms:modified>
  <cp:revision>65</cp:revision>
  <dc:subject/>
  <dc:title>End-to-End CM Delivery Research</dc:title>
</cp:coreProperties>
</file>