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70E8-67EB-44B5-8F7A-D16E60B51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77724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1000"/>
            <a:ext cx="77724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77EE-2B9E-425E-BB8B-8C62A079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25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100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100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E79E-0156-48C7-831F-E99B4380B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252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252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100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100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1000"/>
            <a:ext cx="250236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8BC5-CEDF-45C2-9B74-4B9AA5F93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252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40D8-5EDD-4DC1-A90E-9BECADF0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3B14-2EA9-4C46-9883-CCC8DCC4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379260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2520"/>
            <a:ext cx="379260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99FA-F093-4EA2-BF26-A10ACD4A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16EE-F8FA-4AF0-B241-45B04E53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86C3-56E3-4822-813F-0AAF3410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2520"/>
            <a:ext cx="379260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100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AD1F-8F7B-4E4E-9EA5-47605FC8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379260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25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100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2391-5A04-4FFD-81E4-003174DC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25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2520"/>
            <a:ext cx="37926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1000"/>
            <a:ext cx="7772400" cy="196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0731-F202-432A-A6DA-7CBD2C19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252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F925-D034-4644-AB5E-EE4B80587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2560" y="17604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3960" y="22860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3800" y="83988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B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5360" y="200484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09720" y="2211480"/>
            <a:ext cx="109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SP Firm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3200" y="1525680"/>
            <a:ext cx="142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rnel Mode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5360" y="131904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1240" y="1014480"/>
            <a:ext cx="86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131904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rnel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6480" y="1852560"/>
            <a:ext cx="70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A 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61960" y="1700280"/>
            <a:ext cx="10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C Hard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1960" y="2081160"/>
            <a:ext cx="111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B Hard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560" y="78588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2560" y="147168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2560" y="215748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1640" y="739800"/>
            <a:ext cx="13082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Message FI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66600" y="739800"/>
            <a:ext cx="1494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 Message FI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03760" y="1425600"/>
            <a:ext cx="12229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ig.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80520" y="211140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dec A/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0480" y="2111400"/>
            <a:ext cx="115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law to Lin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12920" y="1425600"/>
            <a:ext cx="116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TMF Det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68580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137160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205740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68580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137160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205740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76920" y="68580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93640" y="739800"/>
            <a:ext cx="11667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Signal FI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1066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76520" y="2438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8000" y="2895480"/>
            <a:ext cx="157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dio from phon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22478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657600" y="1752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209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5638680" y="1066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657600" y="106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8762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8762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95680" y="8762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8762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29760" y="91440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30120" y="53352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1T23:18:40Z</dcterms:created>
  <dc:creator>John Kostogiannis</dc:creator>
  <dc:description/>
  <dc:language>en-US</dc:language>
  <cp:lastModifiedBy>John Kostogiannis</cp:lastModifiedBy>
  <dcterms:modified xsi:type="dcterms:W3CDTF">1999-09-12T11:03:12Z</dcterms:modified>
  <cp:revision>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My Documents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